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9794-9D4F-4A74-9F63-389A1C59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BE24-3781-4896-9741-833AAEE0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8BC0-17C1-45DA-9D7F-56EDE60B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D49D-B616-404D-BA8F-1F139209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0FD7-3267-4D85-844C-41A4D807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1592-A953-4F8C-A741-AE9BFA71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E36D-B762-4901-810B-0083E1E4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6079-EDCC-4EAD-948C-A7B0741D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4624-6640-4438-8A6E-A18ED74A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BCAF-AA5B-4896-9654-ADE332B5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0B45-7A60-4115-A882-4E14A263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91FB-891A-4D80-8D69-1EF6C4C9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4BA3-1B2D-48C1-8736-B295292026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7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6240" y="219240"/>
            <a:ext cx="8259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now people are trying to help,but I wish th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n’t treat me as if I am a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 in the classroom,Xiaowen looks just like all 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m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uses a wheelchair to get around and often t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 a little longer to do everyday th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 there are more opportunities for disab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to make a contribution for soc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college,gifted disabled studentsreceiv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 they need succ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1143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58880" y="600120"/>
            <a:ext cx="9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98108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75800" y="197172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477120" y="3048120"/>
            <a:ext cx="1522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3048120"/>
            <a:ext cx="3808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24480" y="326700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4952880"/>
            <a:ext cx="6098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48520" y="4410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362320" y="6172200"/>
            <a:ext cx="3808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6172200"/>
            <a:ext cx="380880" cy="304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81280" y="59342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4440" y="76320"/>
            <a:ext cx="88585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ents without disabilities also lear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ce of cooperating to reach for their goals in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’s very important for us to know that someone f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way is also struggling as we 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two years,mentally disabled athletes co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gether to take part in the Special Olymp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al disability was considered being shameful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ntally disabled received little treatment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unately,we have now realised that ther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what can be done to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457200"/>
            <a:ext cx="2286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62720" y="75240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228600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57800" y="189540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312408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77120" y="31147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3886200"/>
            <a:ext cx="6858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81480" y="47149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4800600"/>
            <a:ext cx="53352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6477120"/>
            <a:ext cx="838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96040" y="60102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380880"/>
            <a:ext cx="128592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7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152720" y="1143000"/>
            <a:ext cx="2081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穿上衣服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为…做出贡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的问题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达到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在…里起作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适应，调整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习惯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参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用多种方式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参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参加…的比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角逐，竞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9880" y="1057320"/>
            <a:ext cx="20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get dresse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39360" y="1514520"/>
            <a:ext cx="36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make a contributio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53920" y="1971720"/>
            <a:ext cx="19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a matter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52120" y="2352600"/>
            <a:ext cx="26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reach one’s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90200" y="283356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play a rol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10400" y="326700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adjust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72320" y="364824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get us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68120" y="4029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take part 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11840" y="448632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in more than one w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19680" y="4943520"/>
            <a:ext cx="24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participate 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45000" y="540072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compete 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63400" y="5857920"/>
            <a:ext cx="19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compet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80880" y="380880"/>
            <a:ext cx="128592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7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-164520" y="1285920"/>
            <a:ext cx="9633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Mrs. Smith is a woman with rich experience,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ch can be lea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rom whom    B. from which     C. whom      D. 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__________is quite natural , a beginner can’t fi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ch a difficult task in an ho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at         B. As       C. Which         D.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---What will your mother give you as your birthd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She promised to get a new bike ________m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           B. for           C. on           D.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87320" y="1209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57560" y="2505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58160" y="456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7880" y="219240"/>
            <a:ext cx="8826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__________it with me and I’ll see what I can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n left             B. When leaving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If you leave          D. Le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ig snake , the little girl stood under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ee,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een ; screamed                 B. Seen ; scre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eeing ; screaming             D. Seeing ; screa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The experiment ___________they had made gre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ibution succeeded at l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which     B. at which   C. which    D.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The manager had to go to Beijing on business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ch 3, _________happened to be his only son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rth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re            B. when       C. that          D.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293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05640" y="1514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15320" y="3191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53200" y="4943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0720" y="371520"/>
            <a:ext cx="8797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 -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you familiar with the book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Yes. There was a time ________this book was qu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p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B. when     C. with which     D. about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e newly built museum is ________larger tha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ld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any       B. great       C. much          D. 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We are considering ________you to work with us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viting         B. invite         C. to invite    D. inv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He has only got one shirt, because all _________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ing wa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e rest shirts            B. the rem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he left                        D. the 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6560" y="752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67800" y="2048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77440" y="334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68000" y="463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3800" y="371520"/>
            <a:ext cx="883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’t treat me __________a child , will you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s              B. for            C. at               D.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I’ll send____________on her birth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y mother a gift            B. a gift for my m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a gift at my mother       D. a gift by my m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The little girl is dirty from head to foot because s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in the mud all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as playing                 B. has pla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has been playing         D. is pla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---Would you like me to bring you a cup of coffe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 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ith great pleasure!      B. Yes, you cou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Good idea!                      D. That’s very kind of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2024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81800" y="1133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34240" y="2962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24600" y="463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7880" y="447840"/>
            <a:ext cx="8978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was nearly an hour___________the sleeping pi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en            B. before        C. since       D.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---What are you busy doing these day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___________the coming mid-term exam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Preparing                  B. Preparing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prepare                D. To prepar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He looked around and found a man _________a wal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the gr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pick up                    B. to be picking 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pick up                D. picking 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4280" y="371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14760" y="2657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68000" y="42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0160" y="371520"/>
            <a:ext cx="8184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. 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you go with us tomorrow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It ___________the wea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ll depend                  B. is all dep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all depends                 D. is all dep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Which do you enjoy __________your spare tim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rfing the Internet or reading nove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spend                   B. spending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ing spend               D. sp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00920" y="828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0600" y="197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50:23Z</dcterms:modified>
  <cp:revision>6</cp:revision>
  <dc:subject/>
  <dc:title>PowerPoint Presentation</dc:title>
</cp:coreProperties>
</file>